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F9C-FC0B-4263-99E1-61D84B61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0B6-8E74-41E4-ACB2-4EEE7B5E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7DC-989E-406F-B646-C3952853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F06-CA3D-4BB3-9B84-27E5F89D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1B8-5760-4761-A606-FFB8928D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247-4D99-4405-AEEA-D6483854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DC5-D2AF-4730-AC7B-4E275137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713-9ABF-481D-B27C-C2622E04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7EC-FE69-483B-825A-B6ED807E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C0F-2D3A-439A-8582-784ADC84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60C-C491-4D1F-B651-24D16FD0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75B-69DC-43DA-9A26-7E51B198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575-96CE-4D73-B186-70CB37DCB7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EN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14280" y="2700360"/>
            <a:ext cx="58579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ως (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αχιστος (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 (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εισσων (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57120" y="17146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adverbs, comparatives and superl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286240" y="2852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86240" y="3486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86240" y="41004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86240" y="4710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1214280" y="1857240"/>
            <a:ext cx="58579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λιστα (1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λλον (8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κρον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κρος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ειρων (1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286240" y="2009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of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286240" y="2643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, r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286240" y="3257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ittle,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286240" y="3867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286240" y="45007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2700360"/>
            <a:ext cx="62863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ῳον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υσιαστηριον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μην, ποιμενος ὁ (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57120" y="17146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 few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500800" y="28526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ing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500800" y="3486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500800" y="4100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ph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000080" y="2662200"/>
            <a:ext cx="6286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αομαι (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υχα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μνῃσκομαι (23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ιπτω (1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14240" y="178596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715000" y="281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,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15000" y="34480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15000" y="4062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715000" y="46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20:01:10Z</dcterms:created>
  <dc:creator>Sarah</dc:creator>
  <dc:description/>
  <dc:language>en-US</dc:language>
  <cp:lastModifiedBy>Sarah</cp:lastModifiedBy>
  <dcterms:modified xsi:type="dcterms:W3CDTF">2009-07-09T17:11:30Z</dcterms:modified>
  <cp:revision>7</cp:revision>
  <dc:subject/>
  <dc:title>Slide 1</dc:title>
</cp:coreProperties>
</file>